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36977"/>
        <c:axId val="8300447"/>
      </c:barChart>
      <c:catAx>
        <c:axId val="93636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447"/>
        <c:crosses val="autoZero"/>
        <c:auto val="1"/>
        <c:lblAlgn val="ctr"/>
        <c:lblOffset val="100"/>
        <c:noMultiLvlLbl val="0"/>
      </c:catAx>
      <c:valAx>
        <c:axId val="8300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36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6CD-FD9D-450E-AD6B-99E7CEC8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225-B2C4-4A8A-905C-2E4DBE3B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E3E-DAB8-4A96-AC59-A4E6BAFC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098-8CF7-4830-A68F-07774F7C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E47-B3C9-4973-B6A9-444B4E2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3E6-EFF9-4A0C-9920-9CD48E5D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2F3-A673-4BAF-9441-5476AD0D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250-D93A-4E96-8DC7-8D5AF372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2AC-CD7A-4DEF-A577-6B6F3E8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E97-90C5-4F84-80C1-9572D38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FE7-1F26-4105-8063-F804E38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9CC-EA59-4917-93B0-24DEB192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90A6B-716E-4CD0-9842-0B66B8480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