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248683"/>
        <c:axId val="98510166"/>
      </c:barChart>
      <c:catAx>
        <c:axId val="12248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10166"/>
        <c:crosses val="autoZero"/>
        <c:auto val="1"/>
        <c:lblAlgn val="ctr"/>
        <c:lblOffset val="100"/>
        <c:noMultiLvlLbl val="0"/>
      </c:catAx>
      <c:valAx>
        <c:axId val="985101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48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3A22-F30C-4A12-8CA1-8B5D9B95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EA24-2C57-4F0E-B2DC-FE61BC3B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611-E3E4-4F20-A18E-EB464C86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BDF-1E32-4198-A0AA-F24A74A3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83E-D6D7-41F0-89D2-BD23D6B1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8CF-D6D6-44FD-88AB-3BE79E81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3E6B-3A0D-4279-9680-3FF63D4A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E81-1E07-49D7-A7F8-5367DA37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70FC-74D6-4071-AD27-347050C6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5320-D3BE-4249-B392-0346AFB6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8E1-8AD1-4A70-9430-B178B790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CA5F-73B5-483A-AD61-52D28A17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C5302-8531-46C2-BCEC-8E4F3A6295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