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410118"/>
        <c:axId val="61296241"/>
      </c:barChart>
      <c:catAx>
        <c:axId val="724101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96241"/>
        <c:crosses val="autoZero"/>
        <c:auto val="1"/>
        <c:lblAlgn val="ctr"/>
        <c:lblOffset val="100"/>
        <c:noMultiLvlLbl val="0"/>
      </c:catAx>
      <c:valAx>
        <c:axId val="612962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4101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9482-87FD-4939-A484-1251CF92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D03-C927-4CE9-81FA-C8DD14DE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C7E-2B5B-462F-9830-451A9DC8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0D0F-2590-4FA0-9C77-C33B639D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DA3A-71C1-4255-BDAA-B96EC85E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E44-FA38-4E27-82DC-6AE50DE2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8157-703E-4EE7-B649-349669FE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210-CE03-48FF-90CF-AEEBE433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491B-E031-4CAE-9C91-62EBA07F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716C-85BE-4B19-90DD-695885CD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773-174E-4545-990A-6E35F13B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E5EB-B012-42B8-AD0E-68C43DE1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65A92-1631-4708-BC50-886223D9F3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