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911760" y="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11760" y="8709120"/>
            <a:ext cx="293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870912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3008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1440" y="4354560"/>
            <a:ext cx="50403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7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8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6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a System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s for RVM conf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VM info for server held in a server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server &amp; norton use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-rvmsetup offers a collection of “known good” setup parameters for size parm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vice/db/servers: contains pairs (hostname, server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vice/db/hosts: hostnames &amp; their IP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.host, .scm: only used by scri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ROOTVOLUME: used by GetRootVol 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s for cluster 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olete: /vice/db/hosts, /.host (are klud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.scm should go in a server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ROOTVOLUME should go in a server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Coda D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9880" y="1736640"/>
            <a:ext cx="761688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loba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VOLUME = coda.root.read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=microsof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m = scarla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 = scarlatti, puccini, rossini, 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puccin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parti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vicepa raw_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vicepb tree_type depth=5,width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v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=/dev/sd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ize=1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ossin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ucial databases are in /vice/d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vice/db is kept identical on all servers in clu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vice/db/files is list of files to be kept up to date by update client, contacting update server on S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vice/db/files conta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2.tk, volutil.tk, auth.pw, vice.pdb, vice.pcf, pro.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s, hosts, VSGDB, VLDB, VR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mp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S has migrated this into ub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ume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hotom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all RPC’s to srv only invoke RVM resident volum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VolInfo uses the externa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our concern is with volume information held in files on servers, not in RV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ume cre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name, groupid, vsgid, partition, full bu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servers from vsgid &amp; VSG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olutil -h server$i createvol name.$i grou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result server$i updates its /vice/vol/Volume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 VolumeList from all servers: make BigVolume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build VLDB from BigVolume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/vice/vol/AllVolumes, rebuild VR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backup information in /vice/db/dump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ume Databases: VSGD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SGDB - volume storage group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struct:  (vsgid, server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ume databases: VRD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rebuilt inside the createvol_rep shell 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, made on SCM from /vice/vol/VRList throug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olutil mkvrdb /vice/volVR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vice/vol/VRList: text, structure: (name,groupid,noservers,vol1,vol2,..vol8,vsg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List build from /vice/vol/All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volumes is a parsed version of BigVolum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vice/vol/BigVolumeList on SCM is union of /vice/vol/VolumeList on all the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ume Databases: VLD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, made on SCM by bldvldb.sh from /vice/vol/BigVolumeList through  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olutil bldvldb /vice/vol/BigVolume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effect: /vice/vol/AllVolumes is created which is text version of VL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VolumList: for S in servers do; cat /vice/vol/remote/VolumeList.$S &gt;&gt; BigVolume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vice/vol/remote populated through (ks)rcp or 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lots of info: backup volumes, quota, space, creation date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Coda sub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ystems use of configura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configuration data by sub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on of configuration data to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s manipulating configura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LDB (ct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dvldb.sh called inside creatvol{_rep} scri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 maker: used to hang &gt;50%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(mostly implement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update server on all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updatefetch (new client of update server) not rfs, ftp or  {ks}r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 VolumeList only from hosts where volume was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script for updating VR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89360" y="3506760"/>
            <a:ext cx="98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560" y="5030640"/>
            <a:ext cx="25876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s, repair, h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716200" y="4122720"/>
            <a:ext cx="1611360" cy="900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52840" y="3733920"/>
            <a:ext cx="900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1080" y="2446200"/>
            <a:ext cx="0" cy="90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47680" y="1871640"/>
            <a:ext cx="742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u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81120" y="245412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54400" y="4557600"/>
            <a:ext cx="760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ioc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47600" y="3403440"/>
            <a:ext cx="63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p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91120" y="3733920"/>
            <a:ext cx="23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73560" y="3403440"/>
            <a:ext cx="63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p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6560" y="3506760"/>
            <a:ext cx="150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ice_s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52840" y="586728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8000" y="5537160"/>
            <a:ext cx="63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p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6680" y="3735360"/>
            <a:ext cx="1067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udp 1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coda_ven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25640" y="3735360"/>
            <a:ext cx="1108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udp 13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coda_filesr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26000" y="5869080"/>
            <a:ext cx="977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udp 13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coda_a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90600" y="3735360"/>
            <a:ext cx="11566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udp 13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coda_opc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52840" y="2293920"/>
            <a:ext cx="1585800" cy="11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55120" y="236376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6480" y="1906560"/>
            <a:ext cx="119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a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95040" y="2897280"/>
            <a:ext cx="1187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tcp 14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coda_cons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83040" y="339552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98160" y="5487840"/>
            <a:ext cx="85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688000" y="4046400"/>
            <a:ext cx="1611360" cy="90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54960" y="4954680"/>
            <a:ext cx="85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73560" y="4649760"/>
            <a:ext cx="63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p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0200" y="466560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u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13480" y="57164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u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86640" y="3735360"/>
            <a:ext cx="79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udp 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571640" y="2209680"/>
            <a:ext cx="2133720" cy="12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1040" y="2590920"/>
            <a:ext cx="1894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/dev/cfs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eviceIo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53880" y="1828800"/>
            <a:ext cx="138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s /usr/coda/{etc,spool,venus.cach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ice /dev/cfs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/usr/coda/etc/vstab with a few auth2/srv servers in it (for auth2 &amp; rootv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ies in /etc/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us-setup sets these up halfway dec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 related work for cl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ed out hard-wired paths and host n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UDP ports (10?? range is too lo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a device number for BSD /dev/c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rootvol and clog/au have problems with vst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sub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98800" y="362412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6360" y="3583080"/>
            <a:ext cx="882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udp 13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4080" y="3659040"/>
            <a:ext cx="106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1600" y="5183280"/>
            <a:ext cx="85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0680" y="3659040"/>
            <a:ext cx="145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cl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12480" y="2211480"/>
            <a:ext cx="97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4122720"/>
            <a:ext cx="0" cy="1052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440" y="4497480"/>
            <a:ext cx="859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Auth2.t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2674800"/>
            <a:ext cx="0" cy="1052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09400" y="3049560"/>
            <a:ext cx="873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volutil.t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2674800"/>
            <a:ext cx="0" cy="10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93080" y="259236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u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329080" y="3886200"/>
            <a:ext cx="2224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9600" y="358308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u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329080" y="4038480"/>
            <a:ext cx="2224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6800" y="4040280"/>
            <a:ext cx="873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volutil.t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360" y="358308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u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357280" y="3886200"/>
            <a:ext cx="2224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7400" y="3583080"/>
            <a:ext cx="882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udp 13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57280" y="4038480"/>
            <a:ext cx="2224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95000" y="4040280"/>
            <a:ext cx="873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volutil.t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80680" y="5030640"/>
            <a:ext cx="116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udp 13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coda_updsr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54240" y="4199040"/>
            <a:ext cx="0" cy="10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82840" y="4199040"/>
            <a:ext cx="0" cy="10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8120" y="41162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Times New Roman"/>
              </a:rPr>
              <a:t>u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840" y="5335560"/>
            <a:ext cx="106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Config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36 config files, some of form “.fi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most heavily manipulated by some 15 shell scri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data is not in config files but in “serverinfo”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-server-setup sets up a super simple stand alone server in one b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depends 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s: /vice/{db,vol,bin,auth2,backup} &amp; /vice/vol/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VM relat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/Cluster/Hos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volum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up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, protection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serv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 scripts, pid files, lock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partitions: “dynamically discover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V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VM data &amp; log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lengths, rvm start address, heap/static length, nlists, chunk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doesn’t come up easily with non-standar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vm config data is not kept on server (serverinfo files /afs/cs/project/coda-bra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up: vice-rvm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scripts: startserver/nor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3T12:44:10Z</dcterms:created>
  <dc:creator>braam</dc:creator>
  <dc:description/>
  <dc:language>en-US</dc:language>
  <cp:lastModifiedBy>braam</cp:lastModifiedBy>
  <cp:lastPrinted>1997-10-13T16:06:08Z</cp:lastPrinted>
  <dcterms:modified xsi:type="dcterms:W3CDTF">1998-02-20T17:03:38Z</dcterms:modified>
  <cp:revision>1</cp:revision>
  <dc:subject/>
  <dc:title>Coda System Administration</dc:title>
</cp:coreProperties>
</file>