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E6C8D-8AFF-4643-BD88-8000D0A4C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907CC-CCB2-4D43-8D1F-A551B121D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66C3B-98C1-4424-AF0B-FED617584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721DB-9D96-4E62-8BF8-422C87C77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DC947-0948-4E18-A469-D48F83E40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69F60-B337-46AD-ADE0-2F43989C3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44126-CE4D-4825-BCA9-9F32A36D4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0F3F4-B6AE-4B64-8E91-D88794C58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C46F1-538C-4C90-A497-CAFBBAA8C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8EA20-B080-4098-8C0D-0D71FC2CE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38404-930B-486B-B246-6F3676647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E00EC-8CB3-40C9-A5B1-392396144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F5035-E1B5-4C68-B82F-FBBDC074B629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44964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10656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34920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Vertic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Horizont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uble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965680 w 7197480"/>
              <a:gd name="textAreaRight" fmla="*/ 4231800 w 7197480"/>
              <a:gd name="textAreaTop" fmla="*/ 1482840 h 3598560"/>
              <a:gd name="textAreaBottom" fmla="*/ 21157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5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8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16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2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32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148920 h 35985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21:57Z</dcterms:created>
  <dc:creator>tb121644</dc:creator>
  <dc:description/>
  <dc:language>en-US</dc:language>
  <cp:lastModifiedBy>tb121644</cp:lastModifiedBy>
  <dcterms:modified xsi:type="dcterms:W3CDTF">2005-05-25T11:22:14Z</dcterms:modified>
  <cp:revision>1</cp:revision>
  <dc:subject/>
  <dc:title>Slide 1</dc:title>
</cp:coreProperties>
</file>