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C59-A9BF-4CD3-90A4-9014DFAD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72B-38A7-4A92-AA43-D36DFDF5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F2B3A-0330-4B7A-8722-987265B4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1D460-A258-402C-A42A-EF845B72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3F91C-F909-49F0-BFE1-11C39A4D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0ABCE-DB91-4EAE-B091-28F9A7E5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03333-3769-4534-8B9E-8C80FC79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2DD0C-3A9E-4F40-A160-27457512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03DF0-B727-407D-8B35-E8471082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204E8-AF34-419E-B360-44A92BA8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DD2BD-BA17-4045-8BC5-1D38B1E2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04E023-2A4B-4EBF-B277-D382F90A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49A-A06C-4BF6-88B7-455A5C64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849533-6B39-4D3D-A0D0-47022257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366569-2AB5-4936-B861-BA90707B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B51B3E-2AEE-4B42-AAEC-34BA1158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6FB623-9C0F-480E-ABFE-52DACE84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4C5A91-4870-4552-AFF4-EAC15247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F6FB30-D08C-4D69-8BAA-EB51CCB7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E170DF-A4DB-48F7-A20C-9CDA5535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2588A4-9403-4F9E-AB13-F32744CD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2682C3-55B9-47C8-83E7-2DD8810C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087761-FDF1-4AD6-A43D-4F7B632C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BAB-4C56-44BE-B3AA-BDAACA74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D58BB8-7E85-4F88-83FC-61DEDAB3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0D23F-830F-492D-AA96-C13B5B50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6C09D-A7F8-4514-8B1B-B4787753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03C8D-A884-4682-9384-AF25AC1A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A2F48-CD17-4142-9DF8-7064BD7C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3D540-005D-41AD-8145-69CC4BC7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6A4D6-BDDA-4FCB-8169-4D950B6B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BAF1F-A8C3-4E3C-8C5F-0E9AD82F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67B0F-CF8A-4F7C-B173-E4CFA6E7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C5316-7A59-4116-BE76-59BF0366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D47C-8D48-4636-AB4C-6EE94956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BA000-628E-4202-B696-37EE5B76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12666-0A39-489A-87E6-FB10B66F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0ABEA-E2D9-4868-BED6-5A1E8953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DE66B-7D07-4EE1-A243-5422EE32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C8927-EC83-494E-B4CB-A9D7BC68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3653D-DAF9-450F-B787-AD319089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5A621-4C44-4B50-A3A2-B9740B72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F14B2-2FB3-4ED8-A56E-4D18C045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9BCA5-7867-4111-8E26-25B6199C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C5533-0E13-416A-8851-22622F58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3786-06F3-4EFA-AD40-32025795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1FFFE-B486-4C87-A9DF-FAE55065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E51BF-D88A-4F4F-98FE-590F0835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61FFB-5B5B-4C49-89CF-672377B6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3C3C2-67C6-43EE-9E30-2964A9BB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90D86-A9DE-409B-887C-8B37D93E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1E63-B21B-4C09-9E92-08AF830A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BBB8-6A90-4DF0-934B-17F22020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FCFB-3F3F-4A1C-84FB-FD17315D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E7D4-0C26-4AA7-9809-4C1FF20D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0739-29BE-4D80-BFF9-BC2C8660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ED85-8A81-4FA7-AB57-0EF09B1C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AA18-5376-42C5-BDA3-3F0EC77E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DB0C-850F-411A-91BA-141D3B05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9F29-23D5-44F1-A1D8-F029F7FD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B16F-0F4B-428C-BEAB-6D4111A5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9373-2CF5-4041-AD83-8A84B61D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8762B-E71F-4AF5-8A7B-0E9C8DBD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71471-603C-470C-82C4-D2BD6577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A6CCF-7BB3-40A7-9889-2A63FD55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7DC8D-E4DD-46FD-8F8A-8648B2EA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6601A-088A-4BC1-816B-1582C226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F3C1-0E10-470C-BD95-BBAC8090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5C1E-547A-4A77-9A25-278509AC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5578B-91AC-4728-8383-74F2B91B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9C66A-3201-4616-B081-DC94AF20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845AB-63C4-4079-B5AA-1FA512E0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B74A0-B068-4CB4-BAEA-D87BD76A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2D3F1-B4E8-4240-B17E-A583BD8D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5EBB7-241E-4AF3-8CB8-49F01A51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153E3-0304-448E-99FF-E1CC8F25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2E408-83C8-4C38-9B6A-508DD249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778FD-923A-4719-A571-7FBAEF9A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683C-F7A7-4C96-B982-A1A4C6A5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0E0B4-38ED-4431-BDB3-8F17A5A3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58407-A078-4422-AE02-76BAC2E5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CEEF3-767C-4B88-B5C6-D25FEFE5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8C44A-BBC5-4DCE-B3A9-91D14892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61B63-3BA8-4753-A737-E61FDE32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EFB6F-0661-48D7-8BCC-5B6FAE8D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B77DF-A2DD-4EF9-BAE9-FFD8110F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65073-A532-4986-873B-047A3FD1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40347-1D7D-4A04-8C58-A96873EF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8FCCC2-1E79-4E62-85AA-9CD757C6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AD2-D300-4D69-9AAD-5255B1FB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0F92F3-423C-46E1-A123-641FD8DD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43FDA-3754-4ED7-BF1A-A1935744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D94ED6-9E46-40A7-9DCE-66E41877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3FE1E-6ECC-4C88-9D26-2D52646E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0F5F52-18CF-4559-8194-D866BA78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FA4B77-2E64-47C5-9E45-C1BEB5E0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D2B615-BF4E-431E-91CB-B84F4944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2BBEFE-378A-44B1-9223-0B9C6555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2018AF-BA93-4728-875F-815C1B38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9765F-0979-4E3F-81E9-6BFB4DF4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613-C84C-410C-A774-F61C7E7D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8E696-735D-47ED-B729-A9BA23F6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054CC-B1AC-49C8-A222-FAFBB2B5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772E2-B78A-4E38-9570-1EE99FFE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86E54-EE76-4FF8-9E08-B1C289E3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B746B-BA64-4354-8B34-700854D1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E610B-B711-448E-A785-E772FF82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93F6C-5DBF-4EDF-AE61-8777A164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1FFF9-7BB7-4F6A-9406-BE98F0A9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C04AF-AE27-4A4B-908A-6F61B8DF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3519B-9C9F-455F-B216-8EE8499F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7BD-D9ED-447A-84D5-F51B7854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5AC53-935C-4B94-9432-BB481079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1FE9D-EA6C-4A0B-8F4A-6D384195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97CAE-1624-403C-AAC9-F7B3C534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D3E58-A5FE-4EFF-B1CE-AFF5CAAC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87AB4-7576-4EE9-B2EB-4FBAC081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D4CF2-E186-4C74-A156-5EE1DBA9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5D0E8-72D3-486D-A6D0-9BB38714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EA6A6-5D8F-4DAA-9212-F0D65100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F99FD-96B7-4E9B-90FC-250F7D95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663B8-CDC4-4A9D-9BF2-010553BA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053-C260-47FE-8F5F-CE020016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91E0E-6CCE-4325-89F9-FB6E7C26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4F01A-64F1-4667-8203-15CF9150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59E07-5DC8-4890-923B-0A720A13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F5257-5C97-4FEC-8865-40FDC2AF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4DEC0-362F-436D-8374-E9B32118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90040-4637-41AB-AD3B-6EEA856A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C1EDA-4D99-46D5-BE11-8CC53F1C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BE8B7-4A07-41E3-8632-EAF8F9B0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800A7-1B0E-432D-951A-859F4CD8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F2394-BAAB-4E1F-A05C-5524C4C5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621-9B79-4D9C-84F7-3DCB2506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EBBF9-64C9-4A4E-9CAC-46EFEB39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0D824-EA01-4B7A-9220-82A4A87C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F6245-FBE7-421C-81C6-94BE69F1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67C62-7E4E-4A7C-BF43-93F00F50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CDD47-807F-4A52-A975-7DA7F743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27930-1D6D-4B96-9687-72140F16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77ACB-FA0A-49A5-A72F-E4E3534F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A9995-78FC-40E9-8ED6-552348E1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5D485-EEF3-4F20-9355-FAEFF843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2A3FB-CB42-43E4-9FBB-76260AF2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5E59-8BC2-45D4-98C0-11945FC652B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FEE5-CE99-4BCB-AED7-1E97E49A86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3836-52EB-43CD-B6E5-123D4181AAD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17CF-0D9C-4CCB-8FBA-BAE0EC64C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B91D-7CDD-4142-9C50-6AA177F5FF4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E1C0-444E-4DD3-80BB-B6D503D6EE1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13D6-5AD9-46B9-9368-373830A95E1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EA01-F9AF-4960-ACF9-901DE2C4C96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3D2E-3717-4106-AD7D-B8E67B4C7DF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C966-8944-4F5F-8719-E695C8108B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C758-3AA8-4F3D-A06C-FC7A3907686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46CD-9B69-4109-96ED-A19773A60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DFFB-DA85-4768-B81E-3A66089217F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CC88-4267-45B4-B1C7-A485F8E1A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315A-C358-4AD3-B99A-4FA9F0C9119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34E1-65CB-4116-B085-10CC344F7D8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5E4D-71A7-45BD-AF0C-9F0A49EA22C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3E11-E180-4A8C-B182-5250FEA7AC3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0CA9-DE16-4F6E-8DB2-314408130FF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233E-71F8-4DD8-AF13-C7187F4360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355E-FD62-49A7-B5E5-5D801891BDA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DBC9-B99E-4243-B7DE-26DB2A91BA3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1E7E-3BB1-4451-8BCC-E629D15FD61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059A-D012-4061-9D2D-06A8E3633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09B-7CDE-4AC7-A471-14D4B2D294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2893A-82DC-422B-B2F3-3A8FD27C5C2E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A00BC-4C9E-4710-A2C4-A924AB5352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3DDFA608-DA92-4B99-BFF3-B881098C6DA8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38" dur="123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39" dur="123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4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41" dur="123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4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06EC3-9BDC-4741-AB0E-BAA27FB83E5F}" type="slidenum">
              <a:t>3</a:t>
            </a:fld>
          </a:p>
        </p:txBody>
      </p:sp>
    </p:spTree>
  </p:cSld>
  <p:transition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98D70-3DA2-4417-B346-12E4550CFB3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64148FF7-76B5-4978-8AE6-1295BA9E78C8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06A5C-9E72-40EA-A713-B05D68B84A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7C2C5320-0DC2-4339-B560-39D7145235A4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9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E4918-F949-44EE-AA99-FAE22A71AF4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E70CDE70-0D1A-45BD-9A5E-A0D43087E8AA}" type="datetime1">
              <a:rPr lang="en-US"/>
              <a:t>07/30/26</a:t>
            </a:fld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